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CE7-B05C-4A71-B55F-429A2AC2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5AF-2BEA-4741-A05F-F0C3D369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90F-BD59-434A-93DB-87D71289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E74-107A-44BB-A7EB-4577DFD5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F61-58B2-4E96-AAC5-E507BD3A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037-2F75-48C3-9E5B-262B132A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0DA-7ACF-4843-BDD5-A889545A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851-E2A0-4F93-9D89-DDCFF2EA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D11-5C69-456E-B615-3BD149F1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9F9-1458-44A4-B0C1-1F4870DC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4F3-AC4D-4B6C-B79C-CCE6B010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EDA-AAD3-44F1-94C8-5E6CE4A5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34C3-C52A-46E5-B4F6-E4D874E49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-252360" y="1628640"/>
            <a:ext cx="914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Элементы</a:t>
            </a:r>
            <a:endParaRPr b="1" i="1" lang="en-US" sz="3200" spc="1" strike="noStrike">
              <a:ln w="0">
                <a:noFill/>
              </a:ln>
              <a:solidFill>
                <a:srgbClr val="a50021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_Alterna"/>
              <a:ea typeface="a_Alter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 </a:t>
            </a: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математической</a:t>
            </a:r>
            <a:endParaRPr b="1" i="1" lang="en-US" sz="3200" spc="1" strike="noStrike">
              <a:ln w="0">
                <a:noFill/>
              </a:ln>
              <a:solidFill>
                <a:srgbClr val="a50021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_Alterna"/>
              <a:ea typeface="a_Alter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 </a:t>
            </a:r>
            <a:r>
              <a:rPr b="1" i="1" lang="en-US" sz="32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_Alterna"/>
              </a:rPr>
              <a:t>логики</a:t>
            </a:r>
            <a:endParaRPr b="1" i="1" lang="en-US" sz="3200" spc="1" strike="noStrike">
              <a:ln w="0">
                <a:noFill/>
              </a:ln>
              <a:solidFill>
                <a:srgbClr val="a50021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_Alterna"/>
              <a:ea typeface="a_Alter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0"/>
          <p:cNvSpPr txBox="1"/>
          <p:nvPr/>
        </p:nvSpPr>
        <p:spPr>
          <a:xfrm>
            <a:off x="395280" y="2349360"/>
            <a:ext cx="835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Impact"/>
              </a:rPr>
              <a:t>формулы алгебры лог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505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Равносильные формулы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62828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575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a50021"/>
                </a:solidFill>
                <a:latin typeface="Arial"/>
              </a:rPr>
              <a:t>Две формулы А и В равносильны, если они принимают одинаковые логические значения на любом наборе входящих формулы элементарных высказываний.</a:t>
            </a:r>
            <a:endParaRPr b="0" lang="en-US" sz="2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9280" y="39337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А называется тождественно истинным высказыванием, если она принимает значение единицы при любом значении входящих переменных.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88000" y="162828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А называется тождественно ложной, если принимает значение нуля, при всех значениях входящих в неё переменных.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640" y="44366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1. А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≡В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  3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≡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0" y="1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49536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9536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0"/>
              <p:cNvSpPr txBox="1"/>
              <p:nvPr/>
            </p:nvSpPr>
            <p:spPr>
              <a:xfrm>
                <a:off x="2340000" y="4653000"/>
                <a:ext cx="2133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∧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Основные равносильности алгебры логики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916360" y="162864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7.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 противоречия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8.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 исключенного третьего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9.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 снятия двойного отрицания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10.а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ы поглощения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1"/>
              <p:cNvSpPr txBox="1"/>
              <p:nvPr/>
            </p:nvSpPr>
            <p:spPr>
              <a:xfrm>
                <a:off x="755640" y="1700280"/>
                <a:ext cx="155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Rectangle 13"/>
          <p:cNvSpPr/>
          <p:nvPr/>
        </p:nvSpPr>
        <p:spPr>
          <a:xfrm>
            <a:off x="0" y="78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0"/>
              <p:cNvSpPr txBox="1"/>
              <p:nvPr/>
            </p:nvSpPr>
            <p:spPr>
              <a:xfrm>
                <a:off x="826920" y="2205000"/>
                <a:ext cx="155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14"/>
          <p:cNvSpPr/>
          <p:nvPr/>
        </p:nvSpPr>
        <p:spPr>
          <a:xfrm>
            <a:off x="0" y="92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826920" y="2637000"/>
                <a:ext cx="1403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Rectangle 15"/>
          <p:cNvSpPr/>
          <p:nvPr/>
        </p:nvSpPr>
        <p:spPr>
          <a:xfrm>
            <a:off x="0" y="1268280"/>
            <a:ext cx="184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826920" y="3141720"/>
                <a:ext cx="13096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6"/>
          <p:cNvSpPr/>
          <p:nvPr/>
        </p:nvSpPr>
        <p:spPr>
          <a:xfrm>
            <a:off x="0" y="12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826920" y="3645000"/>
                <a:ext cx="14576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17"/>
          <p:cNvSpPr/>
          <p:nvPr/>
        </p:nvSpPr>
        <p:spPr>
          <a:xfrm>
            <a:off x="325440" y="980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1457640" cy="452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0"/>
              <p:cNvSpPr txBox="1"/>
              <p:nvPr/>
            </p:nvSpPr>
            <p:spPr>
              <a:xfrm>
                <a:off x="3348000" y="1557360"/>
                <a:ext cx="13971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3348000" y="2060640"/>
                <a:ext cx="1349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3348000" y="2637000"/>
                <a:ext cx="284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0" name="Rectangle 8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3635280" y="2852640"/>
                <a:ext cx="2984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" name="Rectangle 9"/>
          <p:cNvSpPr/>
          <p:nvPr/>
        </p:nvSpPr>
        <p:spPr>
          <a:xfrm>
            <a:off x="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4067280" y="2852640"/>
                <a:ext cx="27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0"/>
          <p:cNvSpPr/>
          <p:nvPr/>
        </p:nvSpPr>
        <p:spPr>
          <a:xfrm>
            <a:off x="720" y="48492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3851280" y="3213000"/>
                <a:ext cx="2260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5"/>
              <p:cNvSpPr txBox="1"/>
              <p:nvPr/>
            </p:nvSpPr>
            <p:spPr>
              <a:xfrm>
                <a:off x="3995640" y="4292640"/>
                <a:ext cx="2260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Bauhaus-Heavy"/>
              </a:rPr>
              <a:t>Равносильности выражающие одни логические функции через другие</a:t>
            </a:r>
            <a:r>
              <a:rPr b="1" lang="ru-RU" sz="3200" spc="-1" strike="noStrike">
                <a:solidFill>
                  <a:srgbClr val="6600cc"/>
                </a:solidFill>
                <a:latin typeface="Bauhaus-Heavy"/>
              </a:rPr>
              <a:t>	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00" y="2196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2340000" y="1628640"/>
                <a:ext cx="4513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↔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10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2340000" y="2133720"/>
                <a:ext cx="23637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∨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2340000" y="2708280"/>
                <a:ext cx="22017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</m:e>
                    </m:ba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∨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7" name="Rectangle 12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2340000" y="3284640"/>
                <a:ext cx="22017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∨</m:t>
                        </m:r>
                        <m:r>
                          <m:t xml:space="preserve">y</m:t>
                        </m:r>
                      </m:e>
                    </m:ba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∧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9" name="Rectangle 13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340000" y="3860640"/>
                <a:ext cx="2054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∨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1" name="Rectangle 14"/>
          <p:cNvSpPr/>
          <p:nvPr/>
        </p:nvSpPr>
        <p:spPr>
          <a:xfrm>
            <a:off x="1800" y="4019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5"/>
              <p:cNvSpPr txBox="1"/>
              <p:nvPr/>
            </p:nvSpPr>
            <p:spPr>
              <a:xfrm>
                <a:off x="2340000" y="4437000"/>
                <a:ext cx="2054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∧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Равносильности выражающие основные законы алгебры логики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37400" indent="-437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1.                              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ы коммутативности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3.                            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 ассоциативности конъюнкции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4.                            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кон ассоциативности дизъюнкции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lvl="4" marL="1780920" indent="-281160">
              <a:spcBef>
                <a:spcPts val="451"/>
              </a:spcBef>
              <a:buClr>
                <a:srgbClr val="a50021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lvl="4" marL="1780920" indent="-281160">
              <a:buClr>
                <a:srgbClr val="a50021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437400" indent="-43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4724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Итак, алгебра-логика обладает коммутативными и ассоциативными законами относительно операции конъюнкции и дизъюнкции и дистрибутивным законом конъюнкции относительно дизъюнкции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1800" y="1501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1"/>
              <p:cNvSpPr txBox="1"/>
              <p:nvPr/>
            </p:nvSpPr>
            <p:spPr>
              <a:xfrm>
                <a:off x="900000" y="1628640"/>
                <a:ext cx="24480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13"/>
          <p:cNvSpPr/>
          <p:nvPr/>
        </p:nvSpPr>
        <p:spPr>
          <a:xfrm>
            <a:off x="0" y="2116080"/>
            <a:ext cx="184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900000" y="1989000"/>
                <a:ext cx="24861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14"/>
          <p:cNvSpPr/>
          <p:nvPr/>
        </p:nvSpPr>
        <p:spPr>
          <a:xfrm>
            <a:off x="2160" y="251208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900000" y="2421000"/>
                <a:ext cx="38829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Rectangle 15"/>
          <p:cNvSpPr/>
          <p:nvPr/>
        </p:nvSpPr>
        <p:spPr>
          <a:xfrm>
            <a:off x="70560" y="3261600"/>
            <a:ext cx="2336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900000" y="2852640"/>
                <a:ext cx="3843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16"/>
          <p:cNvSpPr/>
          <p:nvPr/>
        </p:nvSpPr>
        <p:spPr>
          <a:xfrm>
            <a:off x="4789440" y="3384360"/>
            <a:ext cx="223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7"/>
              <p:cNvSpPr txBox="1"/>
              <p:nvPr/>
            </p:nvSpPr>
            <p:spPr>
              <a:xfrm>
                <a:off x="900000" y="3357720"/>
                <a:ext cx="472932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∨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Rectangle 17"/>
          <p:cNvSpPr/>
          <p:nvPr/>
        </p:nvSpPr>
        <p:spPr>
          <a:xfrm>
            <a:off x="0" y="462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900000" y="3789360"/>
                <a:ext cx="4729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18"/>
          <p:cNvSpPr/>
          <p:nvPr/>
        </p:nvSpPr>
        <p:spPr>
          <a:xfrm>
            <a:off x="1800" y="48758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6600cc"/>
                </a:solidFill>
                <a:latin typeface="Arial"/>
              </a:rPr>
              <a:t>Логика высказываний</a:t>
            </a:r>
            <a:br>
              <a:rPr sz="4000"/>
            </a:br>
            <a:endParaRPr b="0" lang="en-US" sz="4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Высказыван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Истинность высказыван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перации над высказываниями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Дизъюнкц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Конъюнкц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Импликац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Эквиваленция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Штрих Шеффера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Штрих Лукасевича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КОНЪЮНКЦИЯ:</a:t>
            </a:r>
            <a:r>
              <a:rPr b="0" lang="ru-RU" sz="2800" spc="-1" strike="noStrike">
                <a:solidFill>
                  <a:srgbClr val="6600cc"/>
                </a:solidFill>
                <a:latin typeface="Bauhaus-Heavy"/>
              </a:rPr>
              <a:t> бинарное</a:t>
            </a:r>
            <a:br>
              <a:rPr sz="2800"/>
            </a:b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356000" y="1600200"/>
          <a:ext cx="4248360" cy="4443480"/>
        </p:xfrm>
        <a:graphic>
          <a:graphicData uri="http://schemas.openxmlformats.org/drawingml/2006/table">
            <a:tbl>
              <a:tblPr/>
              <a:tblGrid>
                <a:gridCol w="1416240"/>
                <a:gridCol w="1415880"/>
                <a:gridCol w="1416240"/>
              </a:tblGrid>
              <a:tr h="19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0" lang="en-US" sz="8000" spc="-1" strike="noStrike" baseline="-25000">
                          <a:solidFill>
                            <a:srgbClr val="a50021"/>
                          </a:solidFill>
                          <a:latin typeface="Arial"/>
                        </a:rPr>
                        <a:t>^</a:t>
                      </a:r>
                      <a:r>
                        <a:rPr b="0" lang="en-US" sz="4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 txBox="1"/>
          <p:nvPr/>
        </p:nvSpPr>
        <p:spPr>
          <a:xfrm>
            <a:off x="468360" y="1628640"/>
            <a:ext cx="361008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0" lang="en-US" sz="8000" spc="-1" strike="noStrike" baseline="-25000">
                <a:solidFill>
                  <a:srgbClr val="a50021"/>
                </a:solidFill>
                <a:latin typeface="Arial"/>
              </a:rPr>
              <a:t>^</a:t>
            </a:r>
            <a:endParaRPr b="0" lang="en-US" sz="8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85000"/>
              </a:lnSpc>
              <a:spcBef>
                <a:spcPts val="799"/>
              </a:spcBef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a50021"/>
                </a:solidFill>
                <a:latin typeface="Arial"/>
              </a:rPr>
              <a:t>(логическое умножение, операция «и»)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ТАБЛИЦЫ </a:t>
            </a:r>
            <a:r>
              <a:rPr b="1" lang="ru-RU" sz="3200" spc="-1" strike="noStrike">
                <a:solidFill>
                  <a:srgbClr val="6600cc"/>
                </a:solidFill>
                <a:latin typeface="Bauhaus-Heavy"/>
              </a:rPr>
              <a:t>ИСТИННОСТИ</a:t>
            </a: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. СВОЙСТВА</a:t>
            </a:r>
            <a:br>
              <a:rPr sz="2400"/>
            </a:br>
            <a:r>
              <a:rPr b="1" lang="ru-RU" sz="2800" spc="-1" strike="noStrike">
                <a:solidFill>
                  <a:srgbClr val="6600cc"/>
                </a:solidFill>
                <a:latin typeface="Bauhaus-Heavy"/>
              </a:rPr>
              <a:t>ОТРИЦАНИЕ: унарное </a:t>
            </a:r>
            <a:br>
              <a:rPr sz="2800"/>
            </a:b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916280"/>
            <a:ext cx="4762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Высказывание это: любое предложение, утверждающее что-либо, при этом всегда можно сказать истинно оно или ложно, в данном месте в данное время.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1-истина (и,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true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0-ложь (,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false)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Высказывание, получаемое из элементарных с помощью связок: не, и, или, если то, тогда и только тогда - называются сложными или составными.  Ни одно высказывание не может быть одновременно истинным или ложным. 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3280" y="1600200"/>
            <a:ext cx="39610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имер: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x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x (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враг моего врага мой друг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Двойное отрицание -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96000" y="3938760"/>
          <a:ext cx="2890800" cy="22208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ДИЗЪЮНКЦИЯ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(логическое сложение, операция «или»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48320" y="1600200"/>
          <a:ext cx="4038480" cy="45655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V</a:t>
                      </a: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" name="Object 86"/>
              <p:cNvSpPr txBox="1"/>
              <p:nvPr/>
            </p:nvSpPr>
            <p:spPr>
              <a:xfrm>
                <a:off x="6564240" y="4645080"/>
                <a:ext cx="2048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ИМПЛИКАЦИЯ</a:t>
            </a: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(Импликация двух высказываний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которое ложно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если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истина, а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ложно, и истина во всех остальных случаях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7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Эквиваленция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X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25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Эквиваленция двух высказываний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,это новое высказывание, это истина когда оба высказывания одновременно истина и одновременно ложь, и ложь в остальных других случаях)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7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↔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Штрих Шеффера: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ается: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X </a:t>
            </a:r>
            <a:r>
              <a:rPr b="1" lang="ru-RU" sz="2500" spc="-1" strike="noStrike">
                <a:solidFill>
                  <a:srgbClr val="a50021"/>
                </a:solidFill>
                <a:latin typeface="Arial"/>
              </a:rPr>
              <a:t>/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25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ысказывание, которое ложно только тогда, когда оба высказывания истина)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7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Bauhaus-Heavy"/>
              </a:rPr>
              <a:t>Штрих Лукасевича</a:t>
            </a:r>
            <a:endParaRPr b="0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Обозначение: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↓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(высказывание, которое истина в одном случае, когда оба высказывания ложно)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48320" y="1600200"/>
          <a:ext cx="4038480" cy="44226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 </a:t>
                      </a:r>
                      <a:r>
                        <a:rPr b="1" lang="en-US" sz="36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09:28:04Z</dcterms:created>
  <dc:creator>magic friend</dc:creator>
  <dc:description/>
  <dc:language>en-US</dc:language>
  <cp:lastModifiedBy>I</cp:lastModifiedBy>
  <dcterms:modified xsi:type="dcterms:W3CDTF">2020-08-27T07:26:32Z</dcterms:modified>
  <cp:revision>10</cp:revision>
  <dc:subject/>
  <dc:title>ЭЛЕМЕНТЫ МАТЕМАТИЧЕСКОЙ ЛОГИКИ</dc:title>
</cp:coreProperties>
</file>